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359-5B91-40FD-AE35-08030999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A8D-6EBF-460F-B3DF-B0EFDA14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E94-9C13-4354-84A0-006BDDA4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172-2953-42F6-ADDA-E3BD05A0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AD8-0E93-44ED-8841-ADD77D54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B0E-E409-4576-BD3E-DAD4765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190-C5FF-4C31-BA94-690F12C0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512-43FA-4CF4-A66A-A84CB5E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1BC-A7A1-46C4-ABC1-3281C7EB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B7D-5AAD-4803-B5AC-2B740F5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BF7-D0DE-47D4-8EEC-19F82C0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A4B-2349-471C-A0FF-1453926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FE98-BDB4-422F-957D-75D42AE57A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2209680"/>
            <a:ext cx="65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715000"/>
            <a:ext cx="1524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739152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41911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9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4800600"/>
            <a:ext cx="7617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4648320"/>
            <a:ext cx="20574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4648320"/>
            <a:ext cx="19810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58672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69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69644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698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3733920"/>
            <a:ext cx="609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62920" y="6095880"/>
            <a:ext cx="14475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0" y="4572000"/>
            <a:ext cx="1523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9608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696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5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33Z</dcterms:modified>
  <cp:revision>213</cp:revision>
  <dc:subject/>
  <dc:title>Slide 1</dc:title>
</cp:coreProperties>
</file>